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263-39EB-4FCA-9CAA-C488D96B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3EC-BF34-4B8B-8FD5-A1591766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AC5-6E73-43A8-B53E-842C3511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388-8E2B-4379-A6C8-EEE1FA13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D02B-CDFC-4A1E-B525-9C209062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69B2-2571-4D38-942B-EA09C4CB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276D-C6C6-44A5-8929-34B0EF80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3BD-BABE-40F4-BA85-BB62548D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70AE-440C-49A5-9FE9-1E14390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E3DF-1ACE-4AA3-801A-ACE7114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8E85-2835-429D-B1E5-7C83C53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D48-09F9-4B4F-8573-295C112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2E71-5E60-4FA5-8CB1-13A47954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E8AC-986C-42CA-8EF2-235E7D0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509-FC02-4C57-B762-5D0F9616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657-6F28-4D11-9F58-BF70F645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408C-61A2-4DF9-81BC-904AAF4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B47-2856-4580-AD12-74F01D0A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EEC-0643-430A-9D6F-0D8785EE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4DC-03E6-40CF-B375-43588644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AD8-84A3-4800-AF8E-032C1A4C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C48-80E2-4E5E-B69B-E8EBC16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8FC-6D80-4857-A75A-76B10F9E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5BA-821A-418E-A40C-4D8541F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B07E-9064-4DE6-ADBB-FEDEE05D13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69C-C551-4A3E-B2E4-FA37A60CF3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pter 9 Review/Test Outl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Part 1: Multiple Choice  - Definitions, Terms and Dat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Authoritarian government, civil service, communist, democracy, dictator, dictatorship, emperors, hereditary government, laws, Mao Zedong, one-party state, Politburo, representative democracy, 1911, 1949, 1966, 221 B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Part 2:  Matching - Snapshots China (Page 133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Match the information with the terms from the snapshot of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Part 3:  Functions of Government – List the five (5) main functions of Governmen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represent peoples interests and help make their lives bette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provide services such as health care, child care programs and policing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create and enforce law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communicate with governments around the world; 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To look after national def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Part 4:  </a:t>
            </a:r>
            <a:r>
              <a:rPr b="1" lang="en-CA" sz="1800" spc="-1" strike="noStrike" u="sng">
                <a:solidFill>
                  <a:srgbClr val="ffffff"/>
                </a:solidFill>
                <a:uFillTx/>
                <a:latin typeface="Tahoma"/>
              </a:rPr>
              <a:t>Labelling - Fill in the diagram of the Canadian Government</a:t>
            </a: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 (Page 13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bdoe</cp:lastModifiedBy>
  <dcterms:modified xsi:type="dcterms:W3CDTF">2007-04-09T16:28:3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